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B3066-7969-4493-80DE-956A354F1CA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9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46C31-64A2-48DD-A443-DCC31F550EFB}" type="slidenum">
              <a:rPr b="0" lang="it-IT"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5DDB58-0E8F-4E1A-B6D6-90A9D59CE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B43D1-4004-4A00-801D-1CEBB218F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09F513-B5A3-41EF-ACB3-97350103D0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D2318-6F67-4F55-85F5-2140DECEF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D4943-1A51-4D11-8054-F1E175168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680A7-F206-432E-B606-71DBA065C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0C021-4BD5-41E7-9BAB-54951A061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96035-6E90-4433-B125-B26C92127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0694E9-8DBE-4E3D-A9AC-563E35029E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44DF6-67DA-4AC0-A2E9-4868B7D8E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7BF51-B352-4C15-BDEA-B70FA03F9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F0F90-949D-4EFE-A87D-C80919A63D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D55CC-17A5-41DB-9D22-AB298CED8DDD}"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Via Giulia</a:t>
            </a:r>
            <a:br>
              <a:rPr sz="4000"/>
            </a:br>
            <a:r>
              <a:rPr b="0" lang="it-IT" sz="4000" spc="-1" strike="noStrike">
                <a:solidFill>
                  <a:srgbClr val="000000"/>
                </a:solidFill>
                <a:latin typeface="Arial"/>
              </a:rPr>
              <a:t> di Emiliano Moriconi</a:t>
            </a:r>
            <a:br>
              <a:rPr sz="4000"/>
            </a:br>
            <a:r>
              <a:rPr b="0" lang="it-IT" sz="4000" spc="-1" strike="noStrike">
                <a:solidFill>
                  <a:srgbClr val="000000"/>
                </a:solidFill>
                <a:latin typeface="Arial"/>
              </a:rPr>
              <a:t>scuola media statale G.G.Belli</a:t>
            </a:r>
            <a:br>
              <a:rPr sz="4000"/>
            </a:br>
            <a:r>
              <a:rPr b="0" lang="it-IT" sz="4000" spc="-1" strike="noStrike">
                <a:solidFill>
                  <a:srgbClr val="000000"/>
                </a:solidFill>
                <a:latin typeface="Arial"/>
              </a:rPr>
              <a:t>classe 2 I</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endParaRPr b="0" lang="en-US" sz="32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demolizioni cominciano subito dopo l'approvazione del primo piano regolatore della Roma umbertina, quello di Viviani, datato 1873, che prevede infatti una serie di squarci convergenti su San Giovanni del Fiorentini, al fine di legare il centro storico con il quartiere in via di sviluppo dei Prati di Castello, attraverso la realizzazione di corso Vittorio Emanuele e la prosecuzione di via dei Coronari.</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mpre in questo stretto giro di anni, nel 1888, cominciano i lavori necessari alla costruzione dei muraglioni, per eliminare le frequenti e dannose piene, è proprio quest'operazione a snaturare del tutto il rapporto di "Strada Giulia" con il fiume Tevere, con la distruzione di tutto il margine dell'abitato dell'ansa del fiume fino a ponte Sisto. </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piano regolatore del 1873 diventerà legge dieci anni più tardi, con il solo effetto, in seguito alla creazione di corso Vittorio Emanuele, di isolare ulteriormente la zona di via Giulia, compresa tra la nuova arteria del centro storico di Roma e il fiume.</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storia delle vicende edilizie di "Strada Giulia" si conclude in piena epoca fascista, con i grandi sventramenti effettuati tra le Carceri Nuove e Santo Spirito dei Napoletani, creando una squallida zona vuota ed anonima tra ponte Mazzini e via dei Banchi Vecchi, a lato della quale si installa nella stessa epoca il liceo Virgilio, disturbando ulteriormente un tessuto urbano di cui abbiamo tentato di evidenziare, in queste pagine, la bellezza, unita però ad un'estrema fragilità.</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fontScale="86000"/>
          </a:bodyPr>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it-IT" sz="1600" spc="-1" strike="noStrike">
                <a:solidFill>
                  <a:srgbClr val="000000"/>
                </a:solidFill>
                <a:latin typeface="Arial"/>
              </a:rPr>
              <a:t>ITINERARIO</a:t>
            </a:r>
            <a:endParaRPr b="0" lang="en-US" sz="1600" spc="-1" strike="noStrike">
              <a:solidFill>
                <a:srgbClr val="000000"/>
              </a:solidFill>
              <a:latin typeface="Arial"/>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Da Ponte Sisto ai Fiorentini.</a:t>
            </a:r>
            <a:endParaRPr b="0" lang="en-US" sz="1600" spc="-1" strike="noStrike">
              <a:solidFill>
                <a:srgbClr val="000000"/>
              </a:solidFill>
              <a:latin typeface="Arial"/>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artiamo dalla Fontana dell’acqua Paola a piazza Trilussa, ora in restauro, perché questa in effetti originariamente era la fine di via Giulia sul palazzo dei mendicanti, che fu distrutto con i lavori dei muraglioni sul Tevere, nel 1879 la fontana fu smontata e solo nel 1898 ricostruita dall'altra parte del Tevere a Piazza Trilussa.</a:t>
            </a:r>
            <a:endParaRPr b="0" lang="en-US" sz="1600" spc="-1" strike="noStrike">
              <a:solidFill>
                <a:srgbClr val="000000"/>
              </a:solidFill>
              <a:latin typeface="Arial"/>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roseguiamo su Ponte Sisto che per oltre quattrocento anni è stato l'unico ponte che, attraversando il Tevere, immeteva direttamente nella Strada Giulia creando così un itinerario naturale per chi da Sud si dirigeva verso Castel S. Angelo e la zona dei Banchi, dove, si poteva passare l’altro ponte per andare a S. Pietro. </a:t>
            </a:r>
            <a:br>
              <a:rPr sz="1600"/>
            </a:br>
            <a:r>
              <a:rPr b="0" lang="it-IT" sz="1600" spc="-1" strike="noStrike">
                <a:solidFill>
                  <a:srgbClr val="000000"/>
                </a:solidFill>
                <a:latin typeface="Arial"/>
              </a:rPr>
              <a:t>Attraversata la strada ci troviamo a Piazza San Vincenzo Pallotti, alla sua destra chiude la strada, ad angolo con il Lungotevere dei Tebaldi, il grosso edificio con archi e galleria detto dei Centopreti. </a:t>
            </a:r>
            <a:endParaRPr b="0" lang="en-US" sz="1600" spc="-1" strike="noStrike">
              <a:solidFill>
                <a:srgbClr val="000000"/>
              </a:solidFill>
              <a:latin typeface="Arial"/>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ntinuando ci troviamo sulla sinistra il passetto che porta al Lungotevere, queste scalette separano le due parti del palazzo chiamato Pateras Pescara. </a:t>
            </a:r>
            <a:endParaRPr b="0" lang="en-US" sz="1600" spc="-1" strike="noStrike">
              <a:solidFill>
                <a:srgbClr val="000000"/>
              </a:solidFill>
              <a:latin typeface="Arial"/>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ontana detta del Mascherone, che dà il nome alla via di fronte.</a:t>
            </a:r>
            <a:endParaRPr b="0" lang="en-US" sz="1600" spc="-1" strike="noStrike">
              <a:solidFill>
                <a:srgbClr val="000000"/>
              </a:solidFill>
              <a:latin typeface="Arial"/>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hiesa dei SS. Giovanni e Patronio dei Bolognesi. </a:t>
            </a:r>
            <a:endParaRPr b="0" lang="en-US" sz="1600" spc="-1" strike="noStrike">
              <a:solidFill>
                <a:srgbClr val="000000"/>
              </a:solidFill>
              <a:latin typeface="Arial"/>
            </a:endParaRPr>
          </a:p>
          <a:p>
            <a:pPr marL="294840" indent="-294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Fontana del Mascherone /il passetto </a:t>
            </a:r>
            <a:endParaRPr b="0" lang="en-US" sz="4400" spc="-1" strike="noStrike">
              <a:solidFill>
                <a:srgbClr val="000000"/>
              </a:solidFill>
              <a:latin typeface="Arial"/>
            </a:endParaRPr>
          </a:p>
        </p:txBody>
      </p:sp>
      <p:sp>
        <p:nvSpPr>
          <p:cNvPr id="73" name="Rettangolo 3"/>
          <p:cNvSpPr/>
          <p:nvPr/>
        </p:nvSpPr>
        <p:spPr>
          <a:xfrm>
            <a:off x="2286000" y="-10494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74" name="Picture 5" descr="C:\Users\Emiliano\Documents\ricerche Prof.GIANI\via giulia\fontana del mascherone.jpg"/>
          <p:cNvPicPr/>
          <p:nvPr/>
        </p:nvPicPr>
        <p:blipFill>
          <a:blip r:embed="rId1"/>
          <a:stretch/>
        </p:blipFill>
        <p:spPr>
          <a:xfrm>
            <a:off x="179280" y="1700280"/>
            <a:ext cx="3200400" cy="4267080"/>
          </a:xfrm>
          <a:prstGeom prst="rect">
            <a:avLst/>
          </a:prstGeom>
          <a:ln w="0">
            <a:noFill/>
          </a:ln>
          <a:effectLst>
            <a:outerShdw dist="139498" dir="2700000" blurRad="0" rotWithShape="0">
              <a:srgbClr val="333333">
                <a:alpha val="65000"/>
              </a:srgbClr>
            </a:outerShdw>
          </a:effectLst>
        </p:spPr>
      </p:pic>
      <p:pic>
        <p:nvPicPr>
          <p:cNvPr id="75" name="Picture 6" descr="C:\Users\Emiliano\Documents\ricerche Prof.GIANI\via giulia\559.jpg"/>
          <p:cNvPicPr/>
          <p:nvPr/>
        </p:nvPicPr>
        <p:blipFill>
          <a:blip r:embed="rId2"/>
          <a:stretch/>
        </p:blipFill>
        <p:spPr>
          <a:xfrm>
            <a:off x="4211640" y="1628640"/>
            <a:ext cx="3200400" cy="42674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ulla destra il cancello vetrato con vista posteriore su Palazzo Farnese e giardino (peccato che per vedere qualcosa bisognerebbe essere alti due metri). </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ulla sinistra costruzioni facenti parte dei Camerini Farnesiani e Antiquario Farnesiano.</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rco farnese, eretto nel 1603, collegava la terrazza del palazzo Farnese con il Romitorio e con le costruzioni farnesiane verso il Tevere dove era l' antiquario e un grande giardino. Il progetto originale, mai realizzato, ne  prevedeva la continuazione con un ponte per collegare l'altra sponda del Tevere ove erano gli Orti Farnesiani.</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hiesa di Santa Maria dell’orazione e morte, questa chiesa appartiene alla omonima confraternita il cui scopo era quello di dare sepoltura e pregare per tutti i morti insepolti e abbandonati nella campagna romana.</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alazzo Falconieri sede dell'Accademia d'Ungheria.</a:t>
            </a:r>
            <a:br>
              <a:rPr sz="1600"/>
            </a:br>
            <a:r>
              <a:rPr b="0" lang="it-IT" sz="1600" spc="-1" strike="noStrike">
                <a:solidFill>
                  <a:srgbClr val="000000"/>
                </a:solidFill>
                <a:latin typeface="Arial"/>
              </a:rPr>
              <a:t>Al N° 25 entrata del Liceo Virgilio.</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hiesa del Santo Spirito dei Napoletani. </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iazza della Moretta sulla destra.</a:t>
            </a:r>
            <a:endParaRPr b="0" lang="en-US" sz="16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Palazzo sede di uffici del Ministero di Grazia e Giustizia</a:t>
            </a:r>
            <a:r>
              <a:rPr b="0" lang="it-IT"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Arco Farnese </a:t>
            </a:r>
            <a:endParaRPr b="0" lang="en-US" sz="4400" spc="-1" strike="noStrike">
              <a:solidFill>
                <a:srgbClr val="000000"/>
              </a:solidFill>
              <a:latin typeface="Arial"/>
            </a:endParaRPr>
          </a:p>
        </p:txBody>
      </p:sp>
      <p:pic>
        <p:nvPicPr>
          <p:cNvPr id="79" name="Picture 2" descr="C:\Users\Emiliano\Documents\ricerche Prof.GIANI\via giulia\arco farnese.jpg"/>
          <p:cNvPicPr/>
          <p:nvPr/>
        </p:nvPicPr>
        <p:blipFill>
          <a:blip r:embed="rId1"/>
          <a:stretch/>
        </p:blipFill>
        <p:spPr>
          <a:xfrm>
            <a:off x="2916360" y="1557360"/>
            <a:ext cx="3200400" cy="4267080"/>
          </a:xfrm>
          <a:prstGeom prst="rect">
            <a:avLst/>
          </a:prstGeom>
          <a:ln w="0">
            <a:noFill/>
          </a:ln>
          <a:effectLst>
            <a:outerShdw dist="139498" dir="2700000" blurRad="0" rotWithShape="0">
              <a:srgbClr val="333333">
                <a:alpha val="65000"/>
              </a:srgbClr>
            </a:outerShdw>
          </a:effectLst>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Carceri Nuove sono ora sede della DNA (Direzione Nazionale Antimafia), guardando con attenzione il Palazzo e facendo un giro intorno per Vicolo delle Prigioni, Via Bravaria e Vicolo della Scimia, si può ammirare il tutta la sua imponenza alcune delle grate alle finestre sono disegna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 via del Gonfalone, ex carcere minorile, c’è la Sede del Museo Criminologico e Biblioteca Storica dell'Amministrazione Penitenziari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hiesa di S. Maria del Suffragio notare in alto  l'originale campani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sofà di Via Giulia e cioè quel che resta delle fondamenta del palazzo dei Tribunali.</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hiesa di S. Biagio degli Armeni o della Pagnotta . La chiesa è celebre per la liturgia che si festeggia il 3 febbraio, giorno della festa del santo, durante la quale viene distribuito ai fedeli un pane benedetto. Inoltre, sempre durante questa particolare funzione, vi è l'unzione della gola in ricordo delle capacità curative di S. Biagio, ritenuto dalla tradizione popolare, guaritore delle affezioni della gola.</a:t>
            </a:r>
            <a:br>
              <a:rPr sz="1600"/>
            </a:br>
            <a:r>
              <a:rPr b="0" lang="it-IT" sz="1600" spc="-1" strike="noStrike">
                <a:solidFill>
                  <a:srgbClr val="000000"/>
                </a:solidFill>
                <a:latin typeface="Arial"/>
              </a:rPr>
              <a:t>Chiesa di San Giovanni dei Fiorentini.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iazza dell’Or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an giovanni </a:t>
            </a:r>
            <a:endParaRPr b="0" lang="en-US" sz="4400" spc="-1" strike="noStrike">
              <a:solidFill>
                <a:srgbClr val="000000"/>
              </a:solidFill>
              <a:latin typeface="Arial"/>
            </a:endParaRPr>
          </a:p>
        </p:txBody>
      </p:sp>
      <p:pic>
        <p:nvPicPr>
          <p:cNvPr id="83" name="Picture 6" descr="C:\Users\Emiliano\Documents\ricerche Prof.GIANI\via giulia\san giovanni 2.jpg"/>
          <p:cNvPicPr/>
          <p:nvPr/>
        </p:nvPicPr>
        <p:blipFill>
          <a:blip r:embed="rId1"/>
          <a:stretch/>
        </p:blipFill>
        <p:spPr>
          <a:xfrm>
            <a:off x="0" y="1700280"/>
            <a:ext cx="3867120" cy="5157720"/>
          </a:xfrm>
          <a:prstGeom prst="rect">
            <a:avLst/>
          </a:prstGeom>
          <a:ln w="0">
            <a:noFill/>
          </a:ln>
          <a:effectLst>
            <a:outerShdw dist="139498" dir="2700000" blurRad="0" rotWithShape="0">
              <a:srgbClr val="333333">
                <a:alpha val="65000"/>
              </a:srgbClr>
            </a:outerShdw>
          </a:effectLst>
        </p:spPr>
      </p:pic>
      <p:pic>
        <p:nvPicPr>
          <p:cNvPr id="84" name="Picture 8" descr="C:\Users\Emiliano\Documents\ricerche Prof.GIANI\via giulia\san giovanni.jpg"/>
          <p:cNvPicPr/>
          <p:nvPr/>
        </p:nvPicPr>
        <p:blipFill>
          <a:blip r:embed="rId2"/>
          <a:stretch/>
        </p:blipFill>
        <p:spPr>
          <a:xfrm>
            <a:off x="3898800" y="1844640"/>
            <a:ext cx="5245200" cy="3861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Santa Maria del suffragio e sant’ Anna dei bresciani</a:t>
            </a:r>
            <a:endParaRPr b="0" lang="en-US" sz="4400" spc="-1" strike="noStrike">
              <a:solidFill>
                <a:srgbClr val="000000"/>
              </a:solidFill>
              <a:latin typeface="Arial"/>
            </a:endParaRPr>
          </a:p>
        </p:txBody>
      </p:sp>
      <p:pic>
        <p:nvPicPr>
          <p:cNvPr id="86" name="Picture 10" descr="C:\Users\Emiliano\Documents\ricerche Prof.GIANI\via giulia\santa maria del suffragio.jpg"/>
          <p:cNvPicPr/>
          <p:nvPr/>
        </p:nvPicPr>
        <p:blipFill>
          <a:blip r:embed="rId1"/>
          <a:stretch/>
        </p:blipFill>
        <p:spPr>
          <a:xfrm>
            <a:off x="6084720" y="1628640"/>
            <a:ext cx="2700360" cy="3600720"/>
          </a:xfrm>
          <a:prstGeom prst="rect">
            <a:avLst/>
          </a:prstGeom>
          <a:ln w="0">
            <a:noFill/>
          </a:ln>
          <a:effectLst>
            <a:outerShdw dist="139498" dir="2700000" blurRad="0" rotWithShape="0">
              <a:srgbClr val="333333">
                <a:alpha val="65000"/>
              </a:srgbClr>
            </a:outerShdw>
          </a:effectLst>
        </p:spPr>
      </p:pic>
      <p:pic>
        <p:nvPicPr>
          <p:cNvPr id="87" name="Picture 2" descr="C:\Users\Emiliano\Documents\ricerche Prof.GIANI\via giulia\sant' anna dei bresciani.jpg"/>
          <p:cNvPicPr/>
          <p:nvPr/>
        </p:nvPicPr>
        <p:blipFill>
          <a:blip r:embed="rId2"/>
          <a:stretch/>
        </p:blipFill>
        <p:spPr>
          <a:xfrm>
            <a:off x="0" y="1628640"/>
            <a:ext cx="2700360" cy="3600720"/>
          </a:xfrm>
          <a:prstGeom prst="rect">
            <a:avLst/>
          </a:prstGeom>
          <a:ln w="0">
            <a:noFill/>
          </a:ln>
          <a:effectLst>
            <a:outerShdw dist="139498" dir="2700000" blurRad="0" rotWithShape="0">
              <a:srgbClr val="333333">
                <a:alpha val="65000"/>
              </a:srgbClr>
            </a:outerShdw>
          </a:effectLst>
        </p:spPr>
      </p:pic>
      <p:pic>
        <p:nvPicPr>
          <p:cNvPr id="88" name="Picture 4" descr="C:\Users\Emiliano\Documents\ricerche Prof.GIANI\via giulia\sant' anna dei bresciani 2.jpg"/>
          <p:cNvPicPr/>
          <p:nvPr/>
        </p:nvPicPr>
        <p:blipFill>
          <a:blip r:embed="rId3"/>
          <a:stretch/>
        </p:blipFill>
        <p:spPr>
          <a:xfrm>
            <a:off x="2987640" y="1628640"/>
            <a:ext cx="2700360" cy="3600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T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asseggiando per via Giulia mi hanno colpito alcune cos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numerazione dei civici è alquanto strana, è progressiva ma non divisa in pari e dispari a seconda del lato della strad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fontanelle, i “nasoni” che sono in tutta la città qui hanno sotto un secchio, secondo me serve per fare in modo che i cani bevano senza fatic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urtroppo una strada così bella ha tantissimi negozi chiusi, è una cosa che mette tristezz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pochi banconi che si vedono sono quasi tutti molto curati, ricchi di piante e fiori.</a:t>
            </a: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fonti</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http://www.romasegreta.it/ponte/via-giulia.htm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Posizione dentro Roma e la pianta del monumento</a:t>
            </a:r>
            <a:endParaRPr b="0" lang="en-US" sz="4400" spc="-1" strike="noStrike">
              <a:solidFill>
                <a:srgbClr val="000000"/>
              </a:solidFill>
              <a:latin typeface="Arial"/>
            </a:endParaRPr>
          </a:p>
        </p:txBody>
      </p:sp>
      <p:pic>
        <p:nvPicPr>
          <p:cNvPr id="51" name="Picture 4" descr="C:\Users\Emiliano\Documents\ricerche Prof.GIANI\via giulia\2014-01-05-13-21-01.jpg"/>
          <p:cNvPicPr/>
          <p:nvPr/>
        </p:nvPicPr>
        <p:blipFill>
          <a:blip r:embed="rId1"/>
          <a:stretch/>
        </p:blipFill>
        <p:spPr>
          <a:xfrm>
            <a:off x="250920" y="1773360"/>
            <a:ext cx="3200400" cy="3609720"/>
          </a:xfrm>
          <a:prstGeom prst="rect">
            <a:avLst/>
          </a:prstGeom>
          <a:ln w="0">
            <a:noFill/>
          </a:ln>
          <a:effectLst>
            <a:outerShdw dist="139498" dir="2700000" blurRad="0" rotWithShape="0">
              <a:srgbClr val="333333">
                <a:alpha val="65000"/>
              </a:srgbClr>
            </a:outerShdw>
          </a:effectLst>
        </p:spPr>
      </p:pic>
      <p:pic>
        <p:nvPicPr>
          <p:cNvPr id="52" name="Picture 5" descr="C:\Users\Emiliano\Documents\ricerche Prof.GIANI\via giulia\via giulia 3.gif"/>
          <p:cNvPicPr/>
          <p:nvPr/>
        </p:nvPicPr>
        <p:blipFill>
          <a:blip r:embed="rId2"/>
          <a:stretch/>
        </p:blipFill>
        <p:spPr>
          <a:xfrm>
            <a:off x="3419640" y="3429000"/>
            <a:ext cx="2346120" cy="3213000"/>
          </a:xfrm>
          <a:prstGeom prst="rect">
            <a:avLst/>
          </a:prstGeom>
          <a:ln w="0">
            <a:noFill/>
          </a:ln>
          <a:effectLst>
            <a:outerShdw dist="139498" dir="2700000" blurRad="0" rotWithShape="0">
              <a:srgbClr val="333333">
                <a:alpha val="65000"/>
              </a:srgbClr>
            </a:outerShdw>
          </a:effectLst>
        </p:spPr>
      </p:pic>
      <p:pic>
        <p:nvPicPr>
          <p:cNvPr id="53" name="Picture 6" descr="C:\Users\Emiliano\Documents\ricerche Prof.GIANI\via giulia\557.jpg"/>
          <p:cNvPicPr/>
          <p:nvPr/>
        </p:nvPicPr>
        <p:blipFill>
          <a:blip r:embed="rId3"/>
          <a:stretch/>
        </p:blipFill>
        <p:spPr>
          <a:xfrm>
            <a:off x="5724360" y="1989000"/>
            <a:ext cx="3200400" cy="42674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    </a:t>
            </a:r>
            <a:r>
              <a:rPr b="0" lang="it-IT" sz="4400" spc="-1" strike="noStrike">
                <a:solidFill>
                  <a:srgbClr val="000000"/>
                </a:solidFill>
                <a:latin typeface="Arial"/>
              </a:rPr>
              <a:t>STORIA</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l medioevo  la via si chiamava "magistralis" perché reputata una via maestra, Rovere, nel piano di riorganizzazione della città, nel 1478 ristrutturò questa via denominata "mercatoria" perché collegava piazza di Ponte Sant’.Angelo con i mercati di Campo de' Fiori e di piazza Navon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vera storia comincia nel 1508 quando papa Giulio II della Rovere progettò, col Bramante, la prima e la più lunga strada di Roma (1 Km) a tracciato rettilineo, tanto che fu chiamata anche "via Recta", denominata "strada Julia" dal nome del pontefic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idea di papa Giulio II era quella di modernizzare la vecchia struttura della città per poter riorganizzare, poi, lo Stato pontificio, stringendo nuove alleanze con le famiglie fiorentine grandi finanziatrici delle casse papali, e allentare invece i rapporti con quelle romane.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torno al 1508 il papa cominciò ad interessarsi dell’ideazione di una rete stradale destinata ai servizi, che avrebbe facilitato i collegamenti tra le diverse parti della città che in quell'epoca andavano assumendo un'importanza economica e socia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situazione urbanistica di Roma sarebbe stata trasformata in maniera tale che, tutti i nuovi edifici pubblici fossero costruiti in una zona che delimitasse l’area dei Banchi, questo per fornire un maggiore impulso a una parte della città che costituiva già, il centro economico e finanziario della nuova Roma di quel periodo, conferendole però una funzione in più, quella amministrativa rappresentata dal Palazzo dei Tribunali. Il progetto del palazzo fu affidato a Bramante, che avrebbe dovuto costruire un gigantesco edificio dove riunire tutte le corti giudiziarie e amministrative sparse nella città. </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ltra parte del piano urbanistico coinvolgeva le due sponde del Tevere, creando un sistema stradale che collegasse, secondo un percorso preciso, il porto di Ripa Grande, via della Lungara, ponte Sisto e via Giulia, in modo tale da permettere lo snellimento del traffico delle merci destinate alla zona dei Banchi, dove fiorivano i commerci.</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n solo, il percorso ideato dal pontefice veniva a porre due strade via della Lungara e via Giulia, una di fronte all'altra: la prima, risistemata sulla base della traccia di un'antica via romana, collega la zona dei Borghi con Trastevere, dedicata agli "otia“, ai divertimenti, la seconda invece, perfettamente inserita nel cuore economico e commerciale della città,  collega gli "otia" con i "negotia“, gli affari, rappresentati dalla zona dei Banchi.  </a:t>
            </a:r>
            <a:endParaRPr b="0" lang="en-US" sz="16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urtroppo l'intero progetto non venne mai realizzato, ma solamente cominciato. Nel 1508 dunque il pontefice incarica Donato Bramante di progettare il grandioso palazzo dei Tribunali, su un'area dove già si trovava la piccola chiesa di San Biagio (o della Pagnotta), che avrebbe dovuto essere rinnovata ed inserita nel gigantesco edificio, ma l'impresa edilizia non durò a lungo i lavori vengono interrotti, per non essere mai più ripresi.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progetto di cui la strada Giulia doveva costituire l'asse portante rimane quindi sulla carta, e la via non è che un tracciato stradale senza più valor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l 1513, anno della morte di Giulio II, l'impresa viene a concludersi definitivamente, dell'immane piano urbanistico giuliano non rimane che un ammasso di blocchi di travertino ai bordi della strad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li interessi del nuovo pontefice, papa Leone X Medici, si focalizzano verso il potenziamento di tutta la zona abitata dalla colonia fiorentina e toscana, situata intorno a piazza dell'Oro, dove sorgerà la grandiosa chiesa di San Giovanni dei Fiorentini.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u lotti dalla forma di un rettangolo allungato, sorgono edifici che si sviluppano in genere per un'altezza di due tre piani, con giardino o orto sul retro, quasi sempre di piccole dimensioni, uno sviluppo urbano tendenzialmente uniforme caratterizza la strada nel corso di tutto il Cinquecento, rotto soltanto da pochi edifici di dimensioni più grandi, sorti per iniziativa di privati o di enti religiosi.</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Alla fine del ‘500 la strada è come divisa in due zone quella più a nord verso piazza dell’Or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è diventata l'area degli "emergenti" e degli artigiani specializzati, in stretto contatto con la zona dei Banchi, dopo San Biagio della Pagnotta, andando verso sud, la situazione cambia, la strada si trova in una situazione di estremo degrado, ed è caratterizzata da edilizia povera, osterie, case di tolleranza e luoghi di malaffar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Dalla parte sud della strada, però c’è un piano un programma architettonico-urbanistico ben definito, che si contrappone idealmente alla crescita casuale ed incontrollata del tratto fiorentino della strada: quello promosso dalla potente famiglia Farnes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È interessante notare che fin dalla fondazione del palazzo, già nelle prime descrizioni dei lavori, datate entro il secondo decennio del Cinquecento, appare chiaro che l'edificio non si affaccerà verso il Tevere, bensì verso la zona commerciale ed il mercato di Campo dei Fiori, con cui sarà collegato mediante una "via recta", perpendicolare a via Giulia. Il palazzo dei Farnese si trova quindi al centro di un percorso urbanistico che lega la città con la natura: Campo dei Fiori - via dei Baullari - piazza Farnese - l'atrio del palazzo - il cortile - il Tevere, la strada di Giulio verrà scavalcata da un arco-cavalcavia necessario per collegare la residenza con i cosiddetti "camerini farnesiani”.</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e grandi residenze gentilizie continuano però dopo l'esempio dei Farnese, a volgere le spalle alla "Strada Giulia“ e il ‘500 si chiude per via Giulia con un ultimo tentativo di risanamento da parte di papa Sisto V.</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el secolo successivo, altri importanti interventi architettonici contribuiscono a definire ulteriormente le caratteristiche urbanistiche e monumentali della sua immagine: il completamento della chiesa dei Fiorentini, la costruzione delle Carceri Nuove, I'ampliamento e la ristrutturazione di palazzo Falconieri ed infine la realizzazione di due chiese, Sant'Anna dei Bresciani e Santa Maria del Suffragi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i intensifica notevolmente l'utilizzo della via come scenario per feste e spettacoli teatrali, cominciato già nel secolo precedente, non soltanto feste gentilizie, ma anche popolari.</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 massiccia struttura delle Carceri Nuove, esemplare modello di educazione carceraria, contribuisce in misura non indifferente alla nascita del nuovo "look" della strada, definita alle due estremità dalla chiesa dei Fiorentini e dai complessi residenziali dei Farnese e dei Falconieri e caratterizzata da ottimi esempi di edilizia borghese, da importanti chiese e grandi dimore patrizi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Gli scarsi interventi settecenteschi non fanno altro che ribadire ancora una volta il carattere frammentario e tutto sommato, ambiguo dell'arteria, tagliata fuori dall'espansione della nuova città, via Giulia resta comunque isolata dai grossi movimenti edilizi della Roma settecentesc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 fino al XVIII secolo la decadenza di via Giulia viene ancora mascherata grazie a qualche intervento di carattere religioso, nell'Ottocento ciò non si verifica più. Per tutta la prima metà di questo secolo continuano i restauri e gli abbellimenti, su scala ridotta, cominciati nella seconda metà del Settecento, e, come già questi ultimi, senza eccessivi risultati, anzi, al contrario, con l'effetto di accentuare il processo di degrado del patrimonio edilizio roman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n il complesso del Collegio Spagnolo l'attività edilizia legata a via Giulia segna una battuta d'arresto: la fisionomia raggiunta dopo tre secoli di storia sembra avere raggiunto una certa stabilità, che durerà però molto poco, per modificarsi ulteriormente con la nascita di Roma capita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VIA GIULIA NELLA ROMA CAPITALE</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n l'avvento della Roma capitale, la storia della strada si lega indissolubilmente con quella delle demolizioni, che ne mutano completamente parte del volto e della natur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08T09:37:02Z</dcterms:created>
  <dc:creator>Papà</dc:creator>
  <dc:description/>
  <dc:language>en-US</dc:language>
  <cp:lastModifiedBy>Lenovo</cp:lastModifiedBy>
  <dcterms:modified xsi:type="dcterms:W3CDTF">2014-01-15T16:48:44Z</dcterms:modified>
  <cp:revision>14</cp:revision>
  <dc:subject/>
  <dc:title>Via Giulia  di Emiliano Moriconi</dc:title>
</cp:coreProperties>
</file>